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C32-71B2-402B-8FC3-80DF6EA1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472-E773-4C4E-A85D-99E38A7B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92A-B526-4F4C-BB1D-32C754CC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886-EF57-4A7E-8F24-329EAD91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19E0-89E5-4488-ACD6-EDBF7F4F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F7F5-A9EE-4132-BBD9-09D6B1A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FC0C-4559-4A95-8191-AD7B956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FFB-F343-4564-9A46-41A89AA6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D1A4-51AC-4771-B05C-F3F8ED8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704F-0E0D-4809-8B58-82D5B8FC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4CA-0E73-40B8-B767-4265DFF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BA1-B76E-4AF4-94D0-7B09381F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949-5604-4DF6-80E3-B1FDB22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8F99-A521-4BC9-80EE-483E86C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2FB3-BCCB-4191-84B7-E4DA979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18A7-A17D-4B4F-99E8-DF41C5F6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D744-4D8E-4267-A9DF-8BE6CFC3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D86-AF48-4DC5-A6EF-59FF58E0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8CF-D1A5-4F43-8E82-2B1ED91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215-FAA9-4FE2-802A-D8786289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BD1-F213-4414-8CA1-E5058631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7ED-397C-4443-B912-4355C52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51D-936E-4D56-B829-213A986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B4F-971F-4C67-9C05-7A101D3B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4A3E-71E2-4310-9B87-5E8B099B8E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043-B141-4D1B-8E32-DCF3DC4BA7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gipet.uz/category/carstvennost-i-religiya/sarkofagi-i-grobnicy" TargetMode="External"/><Relationship Id="rId2" Type="http://schemas.openxmlformats.org/officeDocument/2006/relationships/hyperlink" Target="http://egipet.uz/category/carstvennost-i-religiya/sarkofagi-i-grobnicy" TargetMode="External"/><Relationship Id="rId3" Type="http://schemas.openxmlformats.org/officeDocument/2006/relationships/hyperlink" Target="http://egipet.uz/category/carstvennost-i-religiya/sarkofagi-i-grobnicy" TargetMode="External"/><Relationship Id="rId4" Type="http://schemas.openxmlformats.org/officeDocument/2006/relationships/hyperlink" Target="http://egipet.uz/category/carstvennost-i-religiya/sarkofagi-i-grobnicy" TargetMode="External"/><Relationship Id="rId5" Type="http://schemas.openxmlformats.org/officeDocument/2006/relationships/hyperlink" Target="http://egipet.uz/category/carstvennost-i-religiya/sarkofagi-i-grobnicy" TargetMode="External"/><Relationship Id="rId6" Type="http://schemas.openxmlformats.org/officeDocument/2006/relationships/hyperlink" Target="http://egipet.uz/category/carstvennost-i-religiya/sarkofagi-i-grobnicy" TargetMode="External"/><Relationship Id="rId7" Type="http://schemas.openxmlformats.org/officeDocument/2006/relationships/hyperlink" Target="http://egipet.uz/category/carstvennost-i-religiya/sarkofagi-i-grobnicy" TargetMode="External"/><Relationship Id="rId8" Type="http://schemas.openxmlformats.org/officeDocument/2006/relationships/hyperlink" Target="http://egipet.uz/category/carstvennost-i-religiya/sarkofagi-i-grobnicy" TargetMode="External"/><Relationship Id="rId9" Type="http://schemas.openxmlformats.org/officeDocument/2006/relationships/hyperlink" Target="http://egipet.uz/category/carstvennost-i-religiya/sarkofagi-i-grobnicy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Comic Sans MS"/>
              </a:rPr>
              <a:t>Загробная жизнь в Древнем Египте: гробницы и саркофаги.</a:t>
            </a: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ыполнила студентка 4 курса филологического факультета Каминская Га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Есть ли жизнь после смерт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80773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Что мы узнаем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то такие Анубис и Осирис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 египетские божества участвуют в обряде погребе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саркофаг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з чего состоит гробниц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Зачем нам это нужн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расширить представления о культуре и традициях Древнего Егип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понять  и постигнуть особенности мышления египтя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пополнить свои знания, узнав побольше о саркофагах, мумиях, амулетах, гробниц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Представление результатов исследования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орческое задание – инсцениров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План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ведение в тему проекта. Просмотр  презентации уч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эта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иск информации по данной теме. Самостоятельная работа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зентации учеников. Подведение ит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egipet.uz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categor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carstvennost-i-religiya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/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sarkofagi-i-grobn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pavluchenkov.ru/religia_egipta/zagrobniy_cult/index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pyramids.ru/DrEgypt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ru.wikipedia.org/wiki/%D0%94%D1%80%D0%B5%D0%B2%D0%BD%D0%B5%D0%B5%D0%B3%D0%B8%D0%BF%D0%B5%D1%82%D1%81%D0%BA%D0%B0%D1%8F_%D1%80%D0%B5%D0%BB%D0%B8%D0%B3%D0%B8%D1%8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adm.ru/kurort/egipt/stat/stat6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bestreferat.ru/referat-43953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humanities.edu.ru/db/msg/399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tour-to-egypt.ru/2008/11/28/sarkofag-egipet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denis2003.jimdo.com/%D0%B6%D0%B8%D0%B7%D0%BD%D1%8C-%D0%BF%D0%BE%D1%81%D0%BB%D0%B5-%D0%B6%D0%B8%D0%B7%D0%BD%D0%B8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gumer.info/bogoslov_Buks/Relig/korost/18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9:21:1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